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004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8720" y="526680"/>
            <a:ext cx="3508560" cy="26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7560"/>
            <a:ext cx="403236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004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C88F-14CB-4F90-8689-44ED2C395D9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E7DF-21D3-4DB0-8939-B2DA6F58D82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3E0F-AEF6-4B26-AE8C-509DAD5FC2A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1C61-A1B3-49FA-9C60-13C1E0A5788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814A-C995-4947-B274-41A9CE190A9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5F56-5D31-4332-B149-A7CB2E7897E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556B-F8CE-4C78-B526-5F0DF40F83C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79FE-4905-47D8-AA67-D48A294368A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6412-E3D7-4779-9E71-4E514BC2665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02EC-5C9E-42BB-9EB3-792E6BC830C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2C3-879A-4797-9205-79544090FDB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C5C-8BB9-4922-AD59-CEF67C09ACF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7C6B-48C8-4E93-958F-2AECCF4D612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5AC4-151D-4B0D-AB87-AE7FA8A6B4D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159F-1BD4-4966-96A7-836EA2E9372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9BD-BB48-468A-BECA-5137D59F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956-6123-45AD-A659-A9753B6F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046-314B-4ABB-A536-9BD44354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C0C-3AA2-4F13-9926-A82033A5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A3B-CF27-4BD7-9EBB-4C0239B5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DDF-4C24-44A2-906D-E4174E40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83D-1BA4-46E7-9054-DBA3D603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F88-22FE-4DE0-87F6-ACA5E021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D78-C8DD-47B9-87A1-ECA9913A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DFA-1831-4405-8AD4-35F5D62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8E3-AF7A-46A5-B211-323716E3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012-137B-494C-A54A-91B84A8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C772-4795-462B-9604-1C239324E1F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eguay\Bureau\art-nouveau\images\Low_rez\Générique.jpg"/>
          <p:cNvPicPr/>
          <p:nvPr/>
        </p:nvPicPr>
        <p:blipFill>
          <a:blip r:embed="rId1"/>
          <a:stretch/>
        </p:blipFill>
        <p:spPr>
          <a:xfrm>
            <a:off x="1116000" y="260280"/>
            <a:ext cx="6502320" cy="650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SDCCS et son engagement envers les nouveaux arriv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:\Documents and Settings\eguay\Bureau\base.jpg"/>
          <p:cNvPicPr/>
          <p:nvPr/>
        </p:nvPicPr>
        <p:blipFill>
          <a:blip r:embed="rId2"/>
          <a:stretch/>
        </p:blipFill>
        <p:spPr>
          <a:xfrm>
            <a:off x="0" y="5762520"/>
            <a:ext cx="91630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TÉÉ (Travailleurs en établissement dans les éco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2 sortes de modèles: En partenariat avec les organismes communautaires ou administrateur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Administrateur direct dans la région de Peel-Halton avec 2 TÉ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itia Buaba Z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ff"/>
                </a:solidFill>
                <a:uFillTx/>
                <a:latin typeface="Arial"/>
              </a:rPr>
              <a:t>vzam@csdccs.edu.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800" spc="-1" strike="noStrike">
                <a:solidFill>
                  <a:srgbClr val="92d050"/>
                </a:solidFill>
                <a:latin typeface="Arial"/>
              </a:rPr>
              <a:t>731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élika Fon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ff"/>
                </a:solidFill>
                <a:uFillTx/>
                <a:latin typeface="Arial"/>
              </a:rPr>
              <a:t>mfontaine@csdccs.edu.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800" spc="-1" strike="noStrike">
                <a:solidFill>
                  <a:srgbClr val="92d050"/>
                </a:solidFill>
                <a:latin typeface="Arial"/>
              </a:rPr>
              <a:t>731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ex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gramme TÉÉ administré par les parte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Toronto: Le Centre Francophon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urham: Le Conseil des organismes francophones de la région de Durham (COF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amilton- Niagara: Le Centre de santé communautaire Hamilton-Nia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e CSDCCS souhaite voir le programme de TÉÉ dans toutes ses écoles sur tout le territoire qu’il de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emples de partenariats communautaires avec entente for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EP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entre Francophon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a Passerelle I.D.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DÉÉ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llège Boré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NAFRIC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F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SC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OFIF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E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e CSDCCS vise le bon accueil et la bonne intégration des nouveaux arrivants à tous les nivea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a réussite scolaire de l’enfant dépend de l’accueil et de l’accompagnement de toute la fam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En adoptant une culture interne ouverte à ces valeurs et en favorisant une collaboration étroite de tous les intervenants, le CSDCCS offre à ses élèves nouveaux arrivants de meilleures chances de réussir leur vie au Ca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ffffff"/>
                </a:solidFill>
                <a:latin typeface="Arial"/>
              </a:rPr>
              <a:t>MERC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e Conseil scolaire de district catholique Centre-Sud (CSDC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e CSDCCS accueille plus de 14 500 élèves au sein de 42 écoles élémentaires et 9 écoles secondaires sur un territoire s’étendant de la péninsule du Niagara à Peterborough et du lac Ontario (Toronto) à la baie Georgien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a mission du Conseil est d’offrir à l’élève une éducation de qualité dans un milieu de vie catholique et francophone où le respect de la personne, le sens d’appartenance à la collectivité franco-ontarienne, la promotion de l’excellence et l’équité sont des valeurs visibles et essentielles à son épanouissement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e siège social se trouve à Toro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ITIATIVES DU CSD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mpte tenu de la tendance de l’immigration et suite à un nombre très élevé de nouveaux arrivants dans certaines écoles, le CSDCCS a identifié l’intégration des nouveaux arrivants comme étant une des priorités de son plan stratégique 2011-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Modèle d’intervention</a:t>
            </a:r>
            <a:br>
              <a:rPr sz="2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inclut des stratégies provenant de </a:t>
            </a:r>
            <a:br>
              <a:rPr sz="20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l’interne et de l’externe du CSDC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-168120" y="1341360"/>
            <a:ext cx="1035684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NA (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Programme d’appui aux nouveaux arrivants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n programme qui facilite l’intégration scolaire et socio-culturelle des élèves nouveaux arrivants et permet de les familiariser avec leur nouveau milieu scolaire. Un accompagnement au niveau académ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oujours à l’affût de nouvelles initiatives et res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LF (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Actualisation linguistique du français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iaison communaut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Partenariats communautaires et projets communautaires avec les éc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3 agents de liaison communautaire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Régions de Toronto-Durh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Adolphine Mukama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"/>
              </a:rPr>
              <a:t>amukamanzi@csdccs.edu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400" spc="-1" strike="noStrike">
                <a:solidFill>
                  <a:srgbClr val="92d050"/>
                </a:solidFill>
                <a:latin typeface="Arial"/>
              </a:rPr>
              <a:t>731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Régions de Peel-Halton, Kitchener-Waterlo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Marie-Pierre Dao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"/>
              </a:rPr>
              <a:t>mdaoust@csdccs.edu.on.ca</a:t>
            </a: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400" spc="-1" strike="noStrike">
                <a:solidFill>
                  <a:srgbClr val="92d050"/>
                </a:solidFill>
                <a:latin typeface="Arial"/>
              </a:rPr>
              <a:t>731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3 agents de liaison communaut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égions de Hamilton-Nia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ranklin Leuk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ffffff"/>
                </a:solidFill>
                <a:uFillTx/>
                <a:latin typeface="Arial"/>
              </a:rPr>
              <a:t>fleukam@csdccs.edu.on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3200" spc="-1" strike="noStrike">
                <a:solidFill>
                  <a:srgbClr val="92d050"/>
                </a:solidFill>
                <a:latin typeface="Arial"/>
              </a:rPr>
              <a:t>71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ojet P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Financé par le ministère de l’Éducation de l’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ifférentes activités en lien avec l’intégration des nouveaux arriv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ession d’information aux parents et leaders communautaires sur les études secondaires et post secondaires à l’école Mgr-de-Charb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jet familles en mouvement à Hami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ojet P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mp d’été à Toronto avec La Passerelle I.D.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mp d’été à Hamilton avec CANAFRIC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ortie des parents à l’îl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8:29:08Z</dcterms:created>
  <dc:creator>CSDCCS</dc:creator>
  <dc:description/>
  <dc:language>en-US</dc:language>
  <cp:lastModifiedBy>TPL</cp:lastModifiedBy>
  <cp:lastPrinted>2013-05-29T17:37:28Z</cp:lastPrinted>
  <dcterms:modified xsi:type="dcterms:W3CDTF">2013-05-26T05:08:10Z</dcterms:modified>
  <cp:revision>90</cp:revision>
  <dc:subject/>
  <dc:title>Diapositive 1</dc:title>
</cp:coreProperties>
</file>